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CDF6-E3AE-440F-9D01-EE633B39D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8CF-38A1-4A86-B72F-416587B1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AAD-1EB8-4097-B019-109EE792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0C3-8C30-46FC-8215-DC952B79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872-1258-4E7F-A5DE-31A95314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CCB2-A00F-4E1B-84A3-161044DA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2AA7-A9FB-4F98-895E-7337E968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6A7A-1E2E-4B18-A982-82FB81B1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BB88-FCA9-4D1E-BA6F-9A2476F9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D12D-D3DD-43F6-96C4-AD5BDE95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CD3D-C6BB-4F8F-8669-5C6E3BE0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C096-C9B7-4866-B975-4445624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77D-D005-4F52-9D6F-0A7C6A91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AAE3-2EAD-43AD-9AD9-636E3F3A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BC32-5812-4D67-B3C2-A0D81F84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A235-84B9-4FC7-8E7C-C7BE0494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23A2-27B3-4756-8A38-E1D4A46C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190D-C752-4165-B2D2-9A3C99F8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A4BE-91BA-435C-B346-62CD3C81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D41A-E121-4905-B6A4-282C5190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18F53-1715-4D1E-A4B1-5AD2620E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4E772-A9AE-4EAD-BEAE-53F60EBE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6B02D-3E71-45C1-A699-3562CA8D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FEC-DF2D-42C2-9B2C-CDE2D752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D985D-0AA2-4925-B6BF-D7764191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67EA-4E68-4D9A-98CB-9BB8C30C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F704-5280-4B12-AAA8-E70818A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6FA5-270E-4976-B481-382602B7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1C865-1434-48BD-94F6-A652F40B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33A4-6171-49C9-9A2B-DFFCAA1E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340B-C458-471B-AB76-78705CA3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C615E-08A7-4EC0-9FB8-15567BC2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60E6D-350E-437D-B1BE-4F31047A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8B7A-D373-4E56-B081-EB7D95FE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50F-46FD-4881-A6C0-78795201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8337-04D6-4EFA-BAEA-E373E7FB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337AC-AA1E-4552-9013-4DD85AF3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FAB1-9FA0-4CD9-B9B2-F4472511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CFCA-D614-4F3A-A1B4-CEED8C95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65D4C-4B4A-4BFC-9A94-6DD780DA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E5A90-A7E3-4079-93D9-BDCF3693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2DCB8-DAFB-4F96-BCD6-27A9250C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EF65-E54A-4A09-9A72-7452C958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B54A7-AC8E-464B-8956-EC617726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880A5-00F5-48B5-9620-D1844400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113-AE47-4C59-80CD-BF5B46B0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20CB-9312-4245-A709-C1AADD66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48BB-12A6-4A2B-99F2-3433BE0C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C7D34-4B5C-44BD-8F0B-491E31A9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9B027-1F13-42AA-ACCA-F103C6CE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50AE4-3239-4A57-BD0C-A12A2A4F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4DCE5-A377-48EB-BED0-28521E9D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3DD23-5EB7-4C8E-9D72-7F1C9E1A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9D749-0DE1-44B4-BC29-B4587D8F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D0111-3BE6-4B13-8195-5D9CE532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52321-3FBB-453B-8EE5-DAC6529E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1D9-4043-4206-9625-C5750BCF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44784-66A7-43A7-A650-26735C05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41A7D-76A2-4275-9B99-2668AA84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99049-51A5-4328-8487-9F103CAC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398E7-A419-4459-A03C-8C34983D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CADAC-0B58-4B10-A2B4-4848606B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2BC1F-936E-4A11-823B-B415297C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65E75-1364-4FA1-AC85-723C34E5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8E815-F52B-4745-A9ED-107D3CFF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519F1-AFAC-4355-9D58-23515A4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B41ED-7094-49F9-9C35-41F0A9F3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E26-CC57-436B-862E-136ECCC1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55FA8-D9F2-4599-8046-6BCE8E32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92530-E14E-4C3A-ADA4-F649CD43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A9F9F-D731-43CE-A20D-FFF01473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4DD1B-A042-4824-A45D-637C4975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4ED4A-A15C-43D6-9E6F-62CBB08B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A7850-9D13-4D6A-8A25-F4F4622F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365BE-FFAF-4066-A032-83CC2F7A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EC2A3-7EEE-4BA1-82FF-A9ACB74C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C86DC-4233-42C0-81E9-5690E958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4CC07-3D42-4D7C-9EBA-8EC9F2F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DFB-8033-4C40-B2EA-79F30FD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FC18D-7187-4C99-AA99-B922DC58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56AC7-2BDB-4D05-8BA3-D3072954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ECB58-3A95-419D-A0CC-1C2AE34F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C9C8B-BABB-4C95-9FD6-28711C2B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196D9-8EBA-4838-A313-6922C1DF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AC4-D581-415E-83A7-7016FEF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4E2D-3631-4376-ACAA-DA02579C24A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0A56-9959-4EDF-AD5A-7A8C391F8967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FAD8-5A1B-4443-92CF-4CEADD97602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61AB-45C4-4A82-918B-6AE6337082A3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EF27-5338-44BB-95A7-B1A4B02338F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1D7E-64D0-4586-9C6E-76C2BB8EB71D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191D-760A-4B6F-AE36-EF4228AF149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2D63-9DE2-4D5B-87A6-659806074F7D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D0E7-61EC-4C29-97E2-CF55BE2D7A6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5AC9-0130-460C-8C22-0CF201EC3730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ECA2-49B1-44A0-9243-C9C098BBDBB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96D9-8249-42B0-B514-5EE50C345CBC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5BAB-1E88-406C-8D99-BDF7C101D73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E528-F99F-4205-A33A-E7BD3F4D7984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28880" y="1785960"/>
            <a:ext cx="5286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572314"/>
                </a:solidFill>
                <a:latin typeface="Gill Sans MT"/>
              </a:rPr>
              <a:t>THE EYE</a:t>
            </a:r>
            <a:endParaRPr b="0" lang="en-US" sz="8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Retinal Detachment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600" y="1447560"/>
            <a:ext cx="363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an be caused by trauma – e.g. box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udden acceleration and deceleration – bungee jumping, car acci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2mosley.jpg"/>
          <p:cNvPicPr/>
          <p:nvPr/>
        </p:nvPicPr>
        <p:blipFill>
          <a:blip r:embed="rId1"/>
          <a:stretch/>
        </p:blipFill>
        <p:spPr>
          <a:xfrm>
            <a:off x="5286240" y="1357200"/>
            <a:ext cx="3446640" cy="4572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Detached Re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Content Placeholder 3" descr="Retinal_Tear_02[1].png"/>
          <p:cNvPicPr/>
          <p:nvPr/>
        </p:nvPicPr>
        <p:blipFill>
          <a:blip r:embed="rId1"/>
          <a:stretch/>
        </p:blipFill>
        <p:spPr>
          <a:xfrm>
            <a:off x="3171960" y="1571760"/>
            <a:ext cx="4043160" cy="4357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Avulsed Eye ball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ill it ever work agai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hat will need to be intact for it to work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3" descr="halloween0411.jpg"/>
          <p:cNvPicPr/>
          <p:nvPr/>
        </p:nvPicPr>
        <p:blipFill>
          <a:blip r:embed="rId1"/>
          <a:stretch/>
        </p:blipFill>
        <p:spPr>
          <a:xfrm>
            <a:off x="2786040" y="307188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Anatomy of the Ey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Content Placeholder 3" descr="eye_anatomy.gif"/>
          <p:cNvPicPr/>
          <p:nvPr/>
        </p:nvPicPr>
        <p:blipFill>
          <a:blip r:embed="rId1"/>
          <a:stretch/>
        </p:blipFill>
        <p:spPr>
          <a:xfrm>
            <a:off x="2286000" y="1643040"/>
            <a:ext cx="5286240" cy="43578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mmon Disease of the Eye</a:t>
            </a:r>
            <a:br>
              <a:rPr sz="3900"/>
            </a:b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James is a 22 yrs old martial arts athlete who sustained a kick to his right eye 6 months ago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sustained injury to his right cornea laceration due to the contact le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s seen by an opthalmologist and treated for several week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But he still has blurred vision in his right ey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t is best seen under slit lamp, after flourescin stai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29200" y="2285640"/>
            <a:ext cx="27432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Picture Placeholder 4" descr="Corneal_laceration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6385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The corneal injury is visualised as a white patch on the corne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86280" y="2285640"/>
            <a:ext cx="27432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Flourescin Staining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Placeholder 4" descr="384470808_9a073d2be9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lourescin staining selectively stains damaged corneal tissu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urther Treat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n full thickness corneal laceration, aqueous humour may leak out resulting in distortion of the shape of the eyebal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nted to continue fighting, so further treatment with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Phototherapeutic keratectomy (PTK) or Corneal Transpla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Failure to do so, he may not be able to clear his Pre-participation examination with 'one good eye'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atara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s - clouding or opacification of the natural lens of the ey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 Vis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3" descr="cat_m.jpg"/>
          <p:cNvPicPr/>
          <p:nvPr/>
        </p:nvPicPr>
        <p:blipFill>
          <a:blip r:embed="rId1"/>
          <a:stretch/>
        </p:blipFill>
        <p:spPr>
          <a:xfrm>
            <a:off x="2714760" y="250020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How can cataracts be treated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997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he only treatment for cataracts is surgical remov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Cataract surgery is the removal of the eye lens and replacing it with an artificial on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wo basic types of surgical procedures to treat catara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f the eye is otherwise healthy, an intraocular lens may be used to replace the natural, cloudy lens. This lens requires no car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500440" y="1066680"/>
            <a:ext cx="3429000" cy="564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Professor Fred Hollow’s </a:t>
            </a: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work to restore sight to the cataract blind in developing countries was ongoing 15 years after his death.</a:t>
            </a:r>
            <a:br>
              <a:rPr sz="2400"/>
            </a:b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Placeholder 4" descr="fredhollows_wideweb__470x318,2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RED HOLLOWS PERFORMING AN OCULAR EXAMINATION IN VIETNAM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20:52:08Z</dcterms:created>
  <dc:creator>pracstudent</dc:creator>
  <dc:description/>
  <dc:language>en-US</dc:language>
  <cp:lastModifiedBy>LEGION2</cp:lastModifiedBy>
  <dcterms:modified xsi:type="dcterms:W3CDTF">2016-01-14T12:09:32Z</dcterms:modified>
  <cp:revision>13</cp:revision>
  <dc:subject/>
  <dc:title>THE EYE</dc:title>
</cp:coreProperties>
</file>